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F18-563A-44D7-B444-E7C5174D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145-F523-44E5-9F7D-CAC41E3D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0C5-301B-448D-80AB-50332165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8F4-DDEC-42A3-914E-4B6468E2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309C-7596-4569-B590-C13FA237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FCEA-4BD8-4FE4-A5B5-F72E2C0D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C56D-C71B-4FBF-969A-CB300CD1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F68A-89E1-45BF-8467-AD30EB99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C26C-417D-4D30-A504-24FFD9C9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7939-FF54-44E4-8AFA-23EFEC38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06D4-60DD-49AF-98A4-A8D3A9E4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4A6-91B0-43A9-9E46-04E3C315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8D38-7000-4E24-8570-7B0659A9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5179-3FEE-45C4-BD75-75C8B48C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8663-7184-4E1D-B706-E3ADE1B6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CD3F-AFED-4A57-BA2F-AC45327C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BB31-545C-4E8C-9DFA-CE95A5A6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553-78B8-4672-A3C3-067952E3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EDF1-2E68-49EF-9F74-DACC3B47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C62-F5E7-49F4-A193-BACB402A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20A-9285-47F3-99F9-25C37CC6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95D-81F6-466C-8E54-C8803D2A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DF8-1473-4E46-84AC-5B968945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AA0-107D-4B03-BF37-D77332D9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018F-B498-4E3D-B9FC-0DF7364C5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9046-619B-4C56-8D86-E0346CE5D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ndb.com/people/612/000091339/dennis-rader-1.jpg&amp;imgrefurl=http://www.nndb.com/people/612/000091339/&amp;h=224&amp;w=300&amp;sz=8&amp;tbnid=RIaxA6lggLsJ:&amp;tbnh=82&amp;tbnw=111&amp;hl=en&amp;start=4&amp;prev=/images%3Fq%3DDennis%2BRader%26svnum%3D10%26hl%3Den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e5ffff"/>
                </a:solidFill>
                <a:uFillTx/>
                <a:latin typeface="Tahoma"/>
              </a:rPr>
              <a:t>Forensic Psychology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rial Kill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iminal Profi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ching Serial Kill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icult to catch because they easily blend back into society after they k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TK Ki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nnis R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ried 34 ye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grown child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ed as a code enforc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b Scout leader, active in chur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3352680"/>
            <a:ext cx="2590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iminal Profi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s modus operandi &amp; victim ty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es to determine the types of personality characteristics the killer posse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s to reduce population from which the killer is am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s the likelihood of catch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eginning of Profi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888, London – Jack the Rip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prostitutes murdered &amp; disembowe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r. Thomas Bond (surge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ed autopsy on #5.  Offered “thoughts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er/Hatred towards wo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ong, cool, &amp; daring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wear a cloak to hide blood stai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ddle aged, loner, no real jo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ychiatric Approach to Profi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930’s-1960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l Berg questioned Peter Kurten (German serial killer in prison 1930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ret Profile written on Adolf Hitler 194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ailed analyses to help understand crim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yet behavioral prof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 to structure &amp; ideas of profiling to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amous 1</a:t>
            </a:r>
            <a:r>
              <a:rPr b="0" lang="en-US" sz="4400" spc="-1" strike="noStrike" baseline="30000">
                <a:solidFill>
                  <a:srgbClr val="e5ffff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C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r. James Bruss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d Bomber – NY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explosions in 1940’s-50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t many angry letters to newspapers, politicians, &amp; utility compa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Brussel examined &amp; offered though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x, ethnicity, motivation, age, personal appearance, mental status, living arrangement, religion, &amp; employ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Dr. James Brussel"/>
          <p:cNvPicPr/>
          <p:nvPr/>
        </p:nvPicPr>
        <p:blipFill>
          <a:blip r:embed="rId2"/>
          <a:stretch/>
        </p:blipFill>
        <p:spPr>
          <a:xfrm>
            <a:off x="6400800" y="380880"/>
            <a:ext cx="2036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BI Profil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e to increase in # of mur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ed Behavior Science Unit – 197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ed methods for analyzing unknown offenders in unsolved c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crime scenes to look for personality traits &amp; mental dis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iling Toda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“art” than sci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d upon patterns of past cases, assuming human pattern is comm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me scene, weapon, dump site, details about the victim (victimology), transportation, time of day, position of items in crime sc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ictim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as much as possible about the victim (hours/days before murde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move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ine personal communic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of mind &amp; mental heal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level (prostitute vs. girl in hom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 when the killer crossed path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fi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 r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ni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us operand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ing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minal &amp; Psychiatric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sychological tra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a of res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Mad Bomber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eorge Metesk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dle aged Ma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d with 2 unmarried sisters in 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ighbors called it the “Crazy House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employed, trips to NYC for chu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er Con Edison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arrested, changed into a double breasted sui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George Metesky in jail"/>
          <p:cNvPicPr/>
          <p:nvPr/>
        </p:nvPicPr>
        <p:blipFill>
          <a:blip r:embed="rId2"/>
          <a:stretch/>
        </p:blipFill>
        <p:spPr>
          <a:xfrm>
            <a:off x="5943600" y="304920"/>
            <a:ext cx="1924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Three or m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parate ev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ree or m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parate loc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th an emotiona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ling off perio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between homicide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ined by Robert Ressler in 1970’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first in the Ted Bundy c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“accepted” serial killer was Jack the R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d Bomber Profi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udge against Con Edison Util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noi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ddle aged (50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d been bombing for 16 years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at &amp; meticulou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ar double-breasted suits.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ly sensitive to criticis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eign or spent time with foreign peop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on Edison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 &amp; Roman Cathol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mbs as weap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School, no colle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d in 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il &amp; Slav communit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edipal Compl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married, female relative.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ichard Trenton Chase –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ampire of Sacramento: 197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im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rdered woman in home, eviscerating her &amp; drinking her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fi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e – most comm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rawny – due to temperament stud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areer, little education – little thought/planning in c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organized, possible parano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ft fingerprints &amp; footpri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mpire of Sacramento: 197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file continu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 would be sloppy like c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d al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tally unstable, so didn’t drive c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kely lived in immediate are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te, aged 25-2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upon information that crimes as such are same aged, intra-racial, &amp; paranoid per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ly to kill again so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days later; 3 people in home. Stole car &amp; kidnapped bab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mpire of Sacramento: 197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KILL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te male 27 years o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d 1 block away from kill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noid delus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ved alone, unemployed, treated in psychiatric fac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y parts, empty pet collars, &amp; bloodstained blender found in hou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on release, killed 44 before these 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Y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Saving his own life “because his blood was turning to sand &amp; needed others blood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790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rial Kill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Usually) don’t know their victi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 a need to dominate vict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rely kill for material “profit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lling often has symbolic mea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ten choose vulnerable victi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titutes, Runaways, 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racteristics of Serial Kill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ased upon 36 incarcerated serial kill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84: By FBI agent Robert Ressl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90% are white, 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-35 years 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g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used as childr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, sexual, emo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uelty towards anim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rial Killer Characteristics Cont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est in fire (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yromani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60% still wetting bed at age 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andoned by fathers; domineering m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e their fa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m poorly in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hold jobs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hood psychiatric problems; high suicide attempt r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ur Motives for Serial Mur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108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1. Manipul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2. Domin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3. Contr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4. Sexual Lu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m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egor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on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rder because they hear voices or have visions that direct them to do 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on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rders because they believe that they are meant to get rid of a particular group of peop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d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type kills for the sheer pleasure of it, although what aspect they enjoy va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categ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donistic kill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mon mo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xual gratification is main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 of killing is main motiv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donistic kill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ncial or personal gain is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similar to lust but not sexual conn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feeling power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.E. – Hannibal Lecter – wanted to be G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23:06:38Z</dcterms:created>
  <dc:creator> </dc:creator>
  <dc:description/>
  <dc:language>en-US</dc:language>
  <cp:lastModifiedBy>Theresa DeLaurentis</cp:lastModifiedBy>
  <dcterms:modified xsi:type="dcterms:W3CDTF">2008-03-11T01:26:17Z</dcterms:modified>
  <cp:revision>18</cp:revision>
  <dc:subject/>
  <dc:title>Forensic Psychology</dc:title>
</cp:coreProperties>
</file>